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086-67C1-4BA7-8CC9-DBD21CE3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954-D251-4283-AE12-48DBD24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54D-0659-4C33-9D15-F50E257A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3DE-AE2B-408B-AA86-3FC69BDB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A48-0046-4C5C-987E-0EBC138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DEE-11B0-4031-A1C3-CE262A00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FD5-4BA1-46A5-AD33-75114C1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DCB-0724-4AB5-962E-8F425885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C5D-6D68-4DE8-9A99-BD4AADD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286-737F-472E-865F-5CBB611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B18-3202-46F6-BDF0-A760CDA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9EB-7791-4374-94B8-10E1AAD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EA641-60D2-4420-A2DA-762665204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.wmf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interactive/2012/10/04/us/politics/20120804-denver-presidential-debate-obama-romney.html" TargetMode="External"/><Relationship Id="rId2" Type="http://schemas.openxmlformats.org/officeDocument/2006/relationships/hyperlink" Target="http://www.teachervision.fen.com/us-presidency/elections/58186.html?detoured=1" TargetMode="External"/><Relationship Id="rId3" Type="http://schemas.openxmlformats.org/officeDocument/2006/relationships/hyperlink" Target="http://www.timeforkids.com/minisite/election-2012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2971800"/>
            <a:ext cx="5257800" cy="434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891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2012 President Elec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80720" y="-457200"/>
            <a:ext cx="2492280" cy="891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2768760" y="-228600"/>
            <a:ext cx="2768760" cy="822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2514600" y="7559640"/>
            <a:ext cx="15087600" cy="272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2971800" y="-2743200"/>
            <a:ext cx="150876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Br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080720" y="-457200"/>
            <a:ext cx="3178080" cy="1005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657600" y="7559640"/>
            <a:ext cx="16230600" cy="163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2057400" y="-2286000"/>
            <a:ext cx="2057400" cy="1165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685800" y="-2286000"/>
            <a:ext cx="139446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28680"/>
            <a:ext cx="907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and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28440"/>
            <a:ext cx="44258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00120" y="5057640"/>
            <a:ext cx="122868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057400" y="6110280"/>
          <a:ext cx="10029960" cy="3719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6110280"/>
                    <a:ext cx="1002996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8600" y="2286000"/>
          <a:ext cx="7772400" cy="297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2286000"/>
                    <a:ext cx="7772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5257800" y="5057640"/>
            <a:ext cx="12384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ytimes.com/interactive/2012/10/04/us/politics/20120804-denver-presidential-debate-obama-romney.htm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9718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teachervision.fen.com/us-presidency/elections/58186.html?detoured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370044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www.timeforkids.com/minisite/election-20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6:43:25Z</dcterms:created>
  <dc:creator/>
  <dc:description/>
  <dc:language>en-US</dc:language>
  <cp:lastModifiedBy/>
  <cp:revision>0</cp:revision>
  <dc:subject/>
  <dc:title/>
</cp:coreProperties>
</file>